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F001-DE36-44E7-A2F8-3FF95364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C66C-C2A1-41CD-A872-E047CB5D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962-59F9-49F3-9F39-EE388281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3BE-1E76-4A63-9B43-942CCAAB9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86B4-B3A1-4E0C-BBE0-0091CCDE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AB5-1897-410D-885C-1151674B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CF4-D807-4661-A3EA-C44071D2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4C1-8D67-4812-B65A-D81696D5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D168-DB94-4F28-AF39-6B8BDC5B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D2C0-8480-4161-A0F7-62CFC5786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A89A-BCA7-49AB-9F46-1FCBF1C5A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01B3-EB7C-4A08-AA90-F8B089275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AA6-C029-4974-837B-2DC8C752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995-93A3-4776-BFBF-29122DD1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5B88-E1CC-49D1-8657-35053A90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136-D62A-49A4-B607-094E208C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0B1-0B62-4A49-8545-0C9CB352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1644-B80A-4011-94C1-F4AAE181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ECF-17CA-4433-AEAC-4BFE4BAB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C8A8-7D7C-419A-A9B8-3AB30E59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43E3-B4AE-413B-A9DD-15183F6F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9B55-35A8-4663-A38A-BE48A21C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4BE6-FA10-48B7-85DF-5C1B567B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532A-26F7-4E94-8B00-53C317E65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CFFB-7C7D-4207-88D4-BC218980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CE59-3F24-4FB9-A5EA-D6583468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786-3C6D-4ABD-9DFD-B3FC2418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662B-5EA9-4224-AC46-160D0290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DD64-8A56-494A-8052-A7F3B4260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740-69CA-439A-92C1-59DE2861E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78E-7EDF-44DD-8DEE-B6EFA621C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CF6E-1B09-4D7F-B3A8-E998DB36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CB1C-976B-40AB-A317-54B30456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86C7-E220-4BB9-AA0D-DC4258E5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66C-1D3D-454E-86C6-3487C0A1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DE47-9FDD-480A-B983-0911D3D3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062A-599E-48D6-B2A4-39C3B4B5D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3654-5643-4A3B-93A7-96FC8F3B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051-24C6-4EE8-AB0C-957303A84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7592-9117-48ED-9B47-713280BEE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B13C-9274-4396-890A-891FF510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0B9-A350-44BF-849C-0FD8FB76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FF7-1621-4B8F-BF52-D7C44C605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4EAD-9970-47C0-A7EB-CA1C8871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2EDD-2206-4A50-8236-9E5B70EF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1C0D-F0FC-4643-A2FD-04A411BF7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0452-7C62-4D74-AA66-892CCE6A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C7E-4231-4C62-BF0F-B813A15D7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243B-5E42-4A5E-84FB-F8B31F5BA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A34F-E6C6-4F8E-BF4D-EC05C1DE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BCFD-14CA-4FCB-83F5-11E86FC0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2BC-CB49-421F-88F0-B32B6045C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5AA-58EC-4AC3-96C1-5DBC2F3A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5723-C7B6-46C7-A4F7-FDD7426E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9578-424A-4F05-AD96-88450E7D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F6CC-5620-4F5B-AE45-8D88872E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121-5761-48C2-BB2C-EFF231562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7AB3-2525-4434-BAA3-118A13E8A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CBDB-CC76-4487-8AFF-C8985D36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8840-894B-4BA8-BAF9-8E665E62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80FA-08FC-4E09-95B6-A26F187A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A12F-F860-4A1E-B5D1-8EF962F4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CB2-980E-42E7-9D77-34B1DCB94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3B0F-9ABE-49EC-A358-F0B0659E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00ED-4710-4EFF-B751-E8E7551B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0A2-E946-4910-97D9-21478C59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364E-06F4-4F70-A678-77945FD9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1E0-6315-4BC1-B839-08012359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C111-F7DA-487F-BA99-49B34C31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2A72-3228-4BA5-9A45-FFBB0680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1D3E-38A2-4ABC-8EAC-02438FDA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A711-B606-49E5-ABF3-DDF75A78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2349-9028-45CE-90B5-BC32A9E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2F6B-0204-4694-AA0C-886029C5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92BF-A6BE-4749-84B7-3212DF84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E686-466F-4B3B-B37C-F8955F63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403E-37D5-4418-B649-7E6C2A6B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DC07-A37D-4BA2-A6FB-FE66E50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69BF-0FD5-4F27-AED1-38E6E1E7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C333-7E44-4F83-900E-A0B3DBF3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E20B-42E0-454D-91AA-090CE7C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313D-B184-4DB1-AE80-8C3CC126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23FA-FDA3-402C-8E6D-8F41D468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1D66-A0FC-4089-A307-0A69338F8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158320" y="5807160"/>
              <a:ext cx="59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c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B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1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Acids and Base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njugate Acids and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actions between acids and bases always yield their conjugate bases and aci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9" name="Picture 5" descr="16_03-01UN"/>
          <p:cNvPicPr/>
          <p:nvPr/>
        </p:nvPicPr>
        <p:blipFill>
          <a:blip r:embed="rId1"/>
          <a:srcRect l="0" t="0" r="0" b="6452"/>
          <a:stretch/>
        </p:blipFill>
        <p:spPr>
          <a:xfrm>
            <a:off x="1905120" y="2971800"/>
            <a:ext cx="5311800" cy="228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1480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rong acids are completely dissociated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ir conjugate bases are quite weak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ak acids only dissociate partially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ir conjugate bases are stronger weak base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" name="Picture 5" descr="16_04"/>
          <p:cNvPicPr/>
          <p:nvPr/>
        </p:nvPicPr>
        <p:blipFill>
          <a:blip r:embed="rId1"/>
          <a:srcRect l="0" t="0" r="0" b="3075"/>
          <a:stretch/>
        </p:blipFill>
        <p:spPr>
          <a:xfrm>
            <a:off x="176040" y="1752480"/>
            <a:ext cx="367200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1480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ubstances with negligible acidity do not dissociate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ir conjugate bases are exceedingly strong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5" name="Picture 4" descr="16_04"/>
          <p:cNvPicPr/>
          <p:nvPr/>
        </p:nvPicPr>
        <p:blipFill>
          <a:blip r:embed="rId1"/>
          <a:srcRect l="0" t="0" r="0" b="3075"/>
          <a:stretch/>
        </p:blipFill>
        <p:spPr>
          <a:xfrm>
            <a:off x="176040" y="1752480"/>
            <a:ext cx="367200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dissociation constant K</a:t>
            </a:r>
            <a:r>
              <a:rPr b="0" lang="en-US" sz="6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A(aq)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 + 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[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can write the expression for any acid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s dissociate completel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quilibrium far to righ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jugate base must be weak.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5120" y="25146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ny acid-base reaction, the equilibrium will favor the reaction that moves the proton to the stronger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207080" y="2819520"/>
            <a:ext cx="643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l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85800" y="3505320"/>
            <a:ext cx="7505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is a much stronger base than Cl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so the equilibrium lies so far to the right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not measured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and Base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ny acid-base reaction, the equilibrium will favor the reaction that moves the proton to the stronger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3962520"/>
            <a:ext cx="7391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etate is a stronger base than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, so the equilibrium favors the left side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&lt;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2"/>
          <p:cNvGrpSpPr/>
          <p:nvPr/>
        </p:nvGrpSpPr>
        <p:grpSpPr>
          <a:xfrm>
            <a:off x="172800" y="3048120"/>
            <a:ext cx="8654400" cy="611640"/>
            <a:chOff x="172800" y="3048120"/>
            <a:chExt cx="8654400" cy="611640"/>
          </a:xfrm>
        </p:grpSpPr>
        <p:sp>
          <p:nvSpPr>
            <p:cNvPr id="87" name="Rectangle 4"/>
            <p:cNvSpPr/>
            <p:nvPr/>
          </p:nvSpPr>
          <p:spPr>
            <a:xfrm>
              <a:off x="172800" y="3048120"/>
              <a:ext cx="32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"/>
            <p:cNvSpPr/>
            <p:nvPr/>
          </p:nvSpPr>
          <p:spPr>
            <a:xfrm>
              <a:off x="5387040" y="3048120"/>
              <a:ext cx="3440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+ 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9" descr="equilibrium"/>
            <p:cNvPicPr/>
            <p:nvPr/>
          </p:nvPicPr>
          <p:blipFill>
            <a:blip r:embed="rId1"/>
            <a:stretch/>
          </p:blipFill>
          <p:spPr>
            <a:xfrm>
              <a:off x="3602160" y="3156120"/>
              <a:ext cx="158724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o review….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s larg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 =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a weaker base than wate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ak aci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s smal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&lt;&lt;&lt;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a stronger base than wate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320" y="448920"/>
            <a:ext cx="7956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olyprotic Acids- more than 1 acidic hydrogen (diprotic, triprotic)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xyacids - Proton is attached to the oxygen of an 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rganic acids contain the Carboxyl group -COOH with the H attached to O, generally very weak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utoionization of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s we have seen, water is amphoteri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pure water, a few molecules act as bases and a few act as acid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referred to as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autoioniza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706680" y="3276720"/>
            <a:ext cx="7616160" cy="579600"/>
            <a:chOff x="706680" y="3276720"/>
            <a:chExt cx="7616160" cy="579600"/>
          </a:xfrm>
        </p:grpSpPr>
        <p:sp>
          <p:nvSpPr>
            <p:cNvPr id="98" name="Rectangle 4"/>
            <p:cNvSpPr/>
            <p:nvPr/>
          </p:nvSpPr>
          <p:spPr>
            <a:xfrm>
              <a:off x="706680" y="3276720"/>
              <a:ext cx="2530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5263560" y="3276720"/>
              <a:ext cx="3059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9" descr="equilibrium"/>
            <p:cNvPicPr/>
            <p:nvPr/>
          </p:nvPicPr>
          <p:blipFill>
            <a:blip r:embed="rId1"/>
            <a:stretch/>
          </p:blipFill>
          <p:spPr>
            <a:xfrm>
              <a:off x="3534480" y="3416400"/>
              <a:ext cx="160416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on-Product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process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special equilibrium constant is referred to as the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ion-product constan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wat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t 25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rrhenius Defini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ids produce hydrogen ions in aqueous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s produce hydroxide ions when dissolved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finition is limited to aqueous solu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one kind of base for this defini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mmonia could not be an Arrhenius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queous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queous solution three possibilities exist…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Neutral solution [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 = [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= 1.0 x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cidic solution [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 &gt; [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asic solution [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 &lt; [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is defined as the negative base-10 logarithm of the concentration of hydronium 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= -log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sed because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is usually very small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pH decreases,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increases exponentially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1.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pH= 8.00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OH= -log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Ka = -log K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pure water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in pure water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 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1.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3276720" y="5029200"/>
            <a:ext cx="2070000" cy="609480"/>
            <a:chOff x="3276720" y="5029200"/>
            <a:chExt cx="2070000" cy="609480"/>
          </a:xfrm>
        </p:grpSpPr>
        <p:pic>
          <p:nvPicPr>
            <p:cNvPr id="112" name="Picture 6" descr="radical"/>
            <p:cNvPicPr/>
            <p:nvPr/>
          </p:nvPicPr>
          <p:blipFill>
            <a:blip r:embed="rId1"/>
            <a:srcRect l="22812" t="38821" r="63613" b="33998"/>
            <a:stretch/>
          </p:blipFill>
          <p:spPr>
            <a:xfrm>
              <a:off x="3276720" y="5029200"/>
              <a:ext cx="304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7"/>
            <p:cNvSpPr/>
            <p:nvPr/>
          </p:nvSpPr>
          <p:spPr>
            <a:xfrm>
              <a:off x="3517920" y="5029200"/>
              <a:ext cx="18288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pure water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H = -log (1.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= 7.00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 acid has a higher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than pure water, so its pH is &lt;7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base has a lower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than pure water, so its pH is &gt;7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10" descr="16_T01"/>
          <p:cNvPicPr/>
          <p:nvPr/>
        </p:nvPicPr>
        <p:blipFill>
          <a:blip r:embed="rId1"/>
          <a:srcRect l="0" t="19232" r="0" b="11542"/>
          <a:stretch/>
        </p:blipFill>
        <p:spPr>
          <a:xfrm>
            <a:off x="777960" y="4495680"/>
            <a:ext cx="758664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;  pH= -log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p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log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-log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+ -log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pH + pOH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1.0 x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4.00 = pH + pOH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pH and pO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iven any one of these we can find the other thre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re the pH values for several common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1" name="Picture 8" descr="16_05"/>
          <p:cNvPicPr/>
          <p:nvPr/>
        </p:nvPicPr>
        <p:blipFill>
          <a:blip r:embed="rId1"/>
          <a:srcRect l="0" t="0" r="0" b="3672"/>
          <a:stretch/>
        </p:blipFill>
        <p:spPr>
          <a:xfrm>
            <a:off x="3908520" y="1371600"/>
            <a:ext cx="454968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ow Do We Measure pH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less accurate measurements, we can us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Litmus pap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d” paper turns blue above ~pH = 8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lue” paper turns red below ~pH = 5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lue to red = “ahsaid”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r an indicato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4" name="Picture 5" descr="16_07"/>
          <p:cNvPicPr/>
          <p:nvPr/>
        </p:nvPicPr>
        <p:blipFill>
          <a:blip r:embed="rId1"/>
          <a:srcRect l="1565" t="3474" r="1565" b="5871"/>
          <a:stretch/>
        </p:blipFill>
        <p:spPr>
          <a:xfrm>
            <a:off x="152280" y="2019240"/>
            <a:ext cx="472464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ow Do We Measure pH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more accurate measurements, one uses a pH meter, which measures the voltage in the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7" name="Picture 5" descr="16_06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33800" y="1981080"/>
            <a:ext cx="32371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of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ways write down the major ions in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member these are equilibrium proble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member the chemistr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on’t try to memorize, there is no one way to do thi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ronsted-Lowry Defini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 acid is a proton (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donor and a base is a proton accepto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ids and bases always come in pai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l is an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it dissolves in water it gives its proton to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l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ater is a base making the hydronium i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call Strong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Br, HI, HCl, HN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HCl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mpletely dissociat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[HA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O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is going to be small because of equilibriu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0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1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[O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call Weak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a will be smal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t will be an equilibrium problem from the star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sociation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a generalized acid dissociation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would b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equilibrium constant is called the acid-dissociation constant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3220200" y="3886200"/>
            <a:ext cx="2685600" cy="1006200"/>
            <a:chOff x="3220200" y="3886200"/>
            <a:chExt cx="2685600" cy="1006200"/>
          </a:xfrm>
        </p:grpSpPr>
        <p:grpSp>
          <p:nvGrpSpPr>
            <p:cNvPr id="137" name="Group 10"/>
            <p:cNvGrpSpPr/>
            <p:nvPr/>
          </p:nvGrpSpPr>
          <p:grpSpPr>
            <a:xfrm>
              <a:off x="4125960" y="3886200"/>
              <a:ext cx="1779840" cy="1006200"/>
              <a:chOff x="4125960" y="3886200"/>
              <a:chExt cx="1779840" cy="1006200"/>
            </a:xfrm>
          </p:grpSpPr>
          <p:sp>
            <p:nvSpPr>
              <p:cNvPr id="138" name="Rectangle 8"/>
              <p:cNvSpPr/>
              <p:nvPr/>
            </p:nvSpPr>
            <p:spPr>
              <a:xfrm>
                <a:off x="4158360" y="3886200"/>
                <a:ext cx="17474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 [A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A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9"/>
              <p:cNvSpPr/>
              <p:nvPr/>
            </p:nvSpPr>
            <p:spPr>
              <a:xfrm>
                <a:off x="4125960" y="4392720"/>
                <a:ext cx="1752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11"/>
            <p:cNvSpPr/>
            <p:nvPr/>
          </p:nvSpPr>
          <p:spPr>
            <a:xfrm>
              <a:off x="3220200" y="410040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837720" y="2590920"/>
            <a:ext cx="7270200" cy="579600"/>
            <a:chOff x="837720" y="2590920"/>
            <a:chExt cx="7270200" cy="579600"/>
          </a:xfrm>
        </p:grpSpPr>
        <p:sp>
          <p:nvSpPr>
            <p:cNvPr id="142" name="Rectangle 4"/>
            <p:cNvSpPr/>
            <p:nvPr/>
          </p:nvSpPr>
          <p:spPr>
            <a:xfrm>
              <a:off x="837720" y="2590920"/>
              <a:ext cx="260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A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5344560" y="2590920"/>
              <a:ext cx="2763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3" descr="equilibrium"/>
            <p:cNvPicPr/>
            <p:nvPr/>
          </p:nvPicPr>
          <p:blipFill>
            <a:blip r:embed="rId1"/>
            <a:stretch/>
          </p:blipFill>
          <p:spPr>
            <a:xfrm>
              <a:off x="3659040" y="273060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issociation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greater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stronger is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7" name="Picture 8" descr="16_T02"/>
          <p:cNvPicPr/>
          <p:nvPr/>
        </p:nvPicPr>
        <p:blipFill>
          <a:blip r:embed="rId1"/>
          <a:srcRect l="0" t="5616" r="0" b="6399"/>
          <a:stretch/>
        </p:blipFill>
        <p:spPr>
          <a:xfrm>
            <a:off x="762120" y="2057400"/>
            <a:ext cx="76197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alculate the pH of a 0.30 M solution of acetic acid, HC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t 25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                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acetic acid at 25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 is 1.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0" name="Picture 5" descr="equilibrium"/>
          <p:cNvPicPr/>
          <p:nvPr/>
        </p:nvPicPr>
        <p:blipFill>
          <a:blip r:embed="rId1"/>
          <a:stretch/>
        </p:blipFill>
        <p:spPr>
          <a:xfrm>
            <a:off x="3784680" y="3733920"/>
            <a:ext cx="1587600" cy="24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expression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2601000" y="3505320"/>
            <a:ext cx="3978720" cy="1203480"/>
            <a:chOff x="2601000" y="3505320"/>
            <a:chExt cx="3978720" cy="1203480"/>
          </a:xfrm>
        </p:grpSpPr>
        <p:grpSp>
          <p:nvGrpSpPr>
            <p:cNvPr id="154" name="Group 9"/>
            <p:cNvGrpSpPr/>
            <p:nvPr/>
          </p:nvGrpSpPr>
          <p:grpSpPr>
            <a:xfrm>
              <a:off x="3579480" y="3505320"/>
              <a:ext cx="3000240" cy="1203480"/>
              <a:chOff x="3579480" y="3505320"/>
              <a:chExt cx="3000240" cy="1203480"/>
            </a:xfrm>
          </p:grpSpPr>
          <p:sp>
            <p:nvSpPr>
              <p:cNvPr id="155" name="Rectangle 6"/>
              <p:cNvSpPr/>
              <p:nvPr/>
            </p:nvSpPr>
            <p:spPr>
              <a:xfrm>
                <a:off x="3579480" y="3505320"/>
                <a:ext cx="30002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 [C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HC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7"/>
              <p:cNvSpPr/>
              <p:nvPr/>
            </p:nvSpPr>
            <p:spPr>
              <a:xfrm>
                <a:off x="3752640" y="4060800"/>
                <a:ext cx="274284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8"/>
            <p:cNvSpPr/>
            <p:nvPr/>
          </p:nvSpPr>
          <p:spPr>
            <a:xfrm>
              <a:off x="2601000" y="3719520"/>
              <a:ext cx="933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37000" y="175248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next set up a t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2590920"/>
          <a:ext cx="8610480" cy="176832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1828800"/>
                <a:gridCol w="2286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 - x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47"/>
          <p:cNvSpPr/>
          <p:nvPr/>
        </p:nvSpPr>
        <p:spPr>
          <a:xfrm>
            <a:off x="304920" y="4876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e are assuming that x will be very small compared to 0.30 and can, therefore, b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2"/>
          <p:cNvSpPr/>
          <p:nvPr/>
        </p:nvSpPr>
        <p:spPr>
          <a:xfrm>
            <a:off x="3276720" y="35812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3"/>
          <p:cNvSpPr/>
          <p:nvPr/>
        </p:nvSpPr>
        <p:spPr>
          <a:xfrm>
            <a:off x="5334120" y="35812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4"/>
          <p:cNvSpPr/>
          <p:nvPr/>
        </p:nvSpPr>
        <p:spPr>
          <a:xfrm>
            <a:off x="7391520" y="35812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5"/>
          <p:cNvSpPr/>
          <p:nvPr/>
        </p:nvSpPr>
        <p:spPr>
          <a:xfrm>
            <a:off x="5562720" y="4038480"/>
            <a:ext cx="304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6"/>
          <p:cNvSpPr/>
          <p:nvPr/>
        </p:nvSpPr>
        <p:spPr>
          <a:xfrm>
            <a:off x="7620120" y="4038480"/>
            <a:ext cx="304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7"/>
          <p:cNvSpPr/>
          <p:nvPr/>
        </p:nvSpPr>
        <p:spPr>
          <a:xfrm>
            <a:off x="2743200" y="403848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w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0" name="Group 10"/>
          <p:cNvGrpSpPr/>
          <p:nvPr/>
        </p:nvGrpSpPr>
        <p:grpSpPr>
          <a:xfrm>
            <a:off x="2709720" y="2666880"/>
            <a:ext cx="3614760" cy="1068840"/>
            <a:chOff x="2709720" y="2666880"/>
            <a:chExt cx="3614760" cy="1068840"/>
          </a:xfrm>
        </p:grpSpPr>
        <p:grpSp>
          <p:nvGrpSpPr>
            <p:cNvPr id="171" name="Group 7"/>
            <p:cNvGrpSpPr/>
            <p:nvPr/>
          </p:nvGrpSpPr>
          <p:grpSpPr>
            <a:xfrm>
              <a:off x="5029200" y="2666880"/>
              <a:ext cx="1295280" cy="1068840"/>
              <a:chOff x="5029200" y="2666880"/>
              <a:chExt cx="1295280" cy="1068840"/>
            </a:xfrm>
          </p:grpSpPr>
          <p:sp>
            <p:nvSpPr>
              <p:cNvPr id="172" name="Rectangle 5"/>
              <p:cNvSpPr/>
              <p:nvPr/>
            </p:nvSpPr>
            <p:spPr>
              <a:xfrm>
                <a:off x="5058720" y="2666880"/>
                <a:ext cx="1241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x)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3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6"/>
              <p:cNvSpPr/>
              <p:nvPr/>
            </p:nvSpPr>
            <p:spPr>
              <a:xfrm>
                <a:off x="5029200" y="3246120"/>
                <a:ext cx="12952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Rectangle 9"/>
            <p:cNvSpPr/>
            <p:nvPr/>
          </p:nvSpPr>
          <p:spPr>
            <a:xfrm>
              <a:off x="2709720" y="291132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.8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5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11"/>
          <p:cNvSpPr/>
          <p:nvPr/>
        </p:nvSpPr>
        <p:spPr>
          <a:xfrm>
            <a:off x="347760" y="3886200"/>
            <a:ext cx="673884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.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(0.30)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5.4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 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from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= -log 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-log (2.3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2.64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2.0 M acetic acid H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with a Ka 1.8 x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pOH, 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Brønsted-Lowry acid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ust have a removable (acidic) prot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Brønsted-Lowry base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ust have a pair of nonbonding electron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mixture of Weak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ocess is the sam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Determine the major spec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stronger will predominat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igger Ka if concentrations are simila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mixture 1.0 M HF (Ka = 7.2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and 1.0 M HO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Ka =1.6x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the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H of a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olution of formic acid, HCOOH, at 25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2.38.  Calculat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formic acid at this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know tha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2983680" y="4495680"/>
            <a:ext cx="3312000" cy="1006200"/>
            <a:chOff x="2983680" y="4495680"/>
            <a:chExt cx="3312000" cy="1006200"/>
          </a:xfrm>
        </p:grpSpPr>
        <p:grpSp>
          <p:nvGrpSpPr>
            <p:cNvPr id="187" name="Group 9"/>
            <p:cNvGrpSpPr/>
            <p:nvPr/>
          </p:nvGrpSpPr>
          <p:grpSpPr>
            <a:xfrm>
              <a:off x="3976920" y="4495680"/>
              <a:ext cx="2318760" cy="1006200"/>
              <a:chOff x="3976920" y="4495680"/>
              <a:chExt cx="2318760" cy="1006200"/>
            </a:xfrm>
          </p:grpSpPr>
          <p:sp>
            <p:nvSpPr>
              <p:cNvPr id="188" name="Rectangle 6"/>
              <p:cNvSpPr/>
              <p:nvPr/>
            </p:nvSpPr>
            <p:spPr>
              <a:xfrm>
                <a:off x="3976920" y="4495680"/>
                <a:ext cx="231876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 [CO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COOH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7"/>
              <p:cNvSpPr/>
              <p:nvPr/>
            </p:nvSpPr>
            <p:spPr>
              <a:xfrm>
                <a:off x="4076640" y="5002200"/>
                <a:ext cx="22093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8"/>
            <p:cNvSpPr/>
            <p:nvPr/>
          </p:nvSpPr>
          <p:spPr>
            <a:xfrm>
              <a:off x="2983680" y="471024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the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H of a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solution of formic acid, HCOOH, at 25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2.38.  Calculat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formic acid at this tempera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we need the equilibrium concentrations of all three thing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can find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 which is the same as [HCO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, from the pH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the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H = -log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.38 = -log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2.38 = log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2.3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log [H</a:t>
            </a:r>
            <a:r>
              <a:rPr b="0" lang="en-US" sz="2400" spc="-1" strike="noStrike" baseline="2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4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4.2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[HCO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13680" y="182880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w we can set up a t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2743200"/>
          <a:ext cx="7925040" cy="213372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1676520"/>
                <a:gridCol w="18288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COOH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CO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 - 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= 0.0958 =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4.2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10</a:t>
                      </a:r>
                      <a:r>
                        <a:rPr b="0" lang="en-US" sz="20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117"/>
          <p:cNvSpPr/>
          <p:nvPr/>
        </p:nvSpPr>
        <p:spPr>
          <a:xfrm>
            <a:off x="5181480" y="3718080"/>
            <a:ext cx="13716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8"/>
          <p:cNvSpPr/>
          <p:nvPr/>
        </p:nvSpPr>
        <p:spPr>
          <a:xfrm>
            <a:off x="6934320" y="3718080"/>
            <a:ext cx="13716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9"/>
          <p:cNvSpPr/>
          <p:nvPr/>
        </p:nvSpPr>
        <p:spPr>
          <a:xfrm>
            <a:off x="3048120" y="3718080"/>
            <a:ext cx="13716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0"/>
          <p:cNvSpPr/>
          <p:nvPr/>
        </p:nvSpPr>
        <p:spPr>
          <a:xfrm>
            <a:off x="5257800" y="41911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1"/>
          <p:cNvSpPr/>
          <p:nvPr/>
        </p:nvSpPr>
        <p:spPr>
          <a:xfrm>
            <a:off x="7010280" y="41911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2"/>
          <p:cNvSpPr/>
          <p:nvPr/>
        </p:nvSpPr>
        <p:spPr>
          <a:xfrm>
            <a:off x="2590920" y="4191120"/>
            <a:ext cx="21333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from p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05" name="Group 14"/>
          <p:cNvGrpSpPr/>
          <p:nvPr/>
        </p:nvGrpSpPr>
        <p:grpSpPr>
          <a:xfrm>
            <a:off x="2239200" y="2209680"/>
            <a:ext cx="4734000" cy="947160"/>
            <a:chOff x="2239200" y="2209680"/>
            <a:chExt cx="4734000" cy="947160"/>
          </a:xfrm>
        </p:grpSpPr>
        <p:sp>
          <p:nvSpPr>
            <p:cNvPr id="206" name="Rectangle 11"/>
            <p:cNvSpPr/>
            <p:nvPr/>
          </p:nvSpPr>
          <p:spPr>
            <a:xfrm>
              <a:off x="3188160" y="2209680"/>
              <a:ext cx="3785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4.2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 [4.2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0.1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3369960" y="2691000"/>
              <a:ext cx="350496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2239200" y="239868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698560" y="3429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1.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cent dissoc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c82e32"/>
                </a:solidFill>
                <a:uFillTx/>
                <a:latin typeface="Arial"/>
              </a:rPr>
              <a:t>    amount dissociated   </a:t>
            </a:r>
            <a:r>
              <a:rPr b="0" lang="en-US" sz="2800" spc="-1" strike="noStrike" u="sng">
                <a:solidFill>
                  <a:srgbClr val="c82e32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x 100 </a:t>
            </a:r>
            <a:br>
              <a:rPr sz="2800"/>
            </a:b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itial concentrati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weak acid percent dissociation increases as acid becomes more dilu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[HA]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decreases [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decreases but % dissociation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 Chatelier’s principl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ercent Ioniz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ercent Ionization =                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this exampl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4.2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HCOOH]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0.10 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4800600" y="1676520"/>
            <a:ext cx="1676520" cy="1203480"/>
            <a:chOff x="4800600" y="1676520"/>
            <a:chExt cx="1676520" cy="1203480"/>
          </a:xfrm>
        </p:grpSpPr>
        <p:sp>
          <p:nvSpPr>
            <p:cNvPr id="215" name="Rectangle 4"/>
            <p:cNvSpPr/>
            <p:nvPr/>
          </p:nvSpPr>
          <p:spPr>
            <a:xfrm>
              <a:off x="4916520" y="1676520"/>
              <a:ext cx="1547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HA]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4800600" y="2260440"/>
              <a:ext cx="16765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7"/>
          <p:cNvSpPr/>
          <p:nvPr/>
        </p:nvSpPr>
        <p:spPr>
          <a:xfrm>
            <a:off x="380880" y="4876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ercent Ionization =                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8"/>
          <p:cNvGrpSpPr/>
          <p:nvPr/>
        </p:nvGrpSpPr>
        <p:grpSpPr>
          <a:xfrm>
            <a:off x="4409280" y="4600440"/>
            <a:ext cx="1953000" cy="1068840"/>
            <a:chOff x="4409280" y="4600440"/>
            <a:chExt cx="1953000" cy="1068840"/>
          </a:xfrm>
        </p:grpSpPr>
        <p:sp>
          <p:nvSpPr>
            <p:cNvPr id="219" name="Rectangle 9"/>
            <p:cNvSpPr/>
            <p:nvPr/>
          </p:nvSpPr>
          <p:spPr>
            <a:xfrm>
              <a:off x="4409280" y="4600440"/>
              <a:ext cx="1953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4.2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0.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495680" y="5155920"/>
              <a:ext cx="16765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1"/>
          <p:cNvSpPr/>
          <p:nvPr/>
        </p:nvSpPr>
        <p:spPr>
          <a:xfrm>
            <a:off x="4116960" y="562284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4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% dissociation of  1.00 M and 1.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 Acetic acid (Ka = 1.8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Acid-Base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call…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 – strong bas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aq)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aq)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ak acid – strong bas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) HA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(weak acid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 HA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rong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trong bases are the soluble hydroxides, which are the alkali metal and heavier alkaline earth metal hydroxides (Ca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Sr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nd Ba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gain, these substances dissociate completely in aqueous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 a strong base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ydroxides of the alkali metals are strong bases because they dissociate completely when dissol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hydroxides of alkaline earths Ca(OH)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etc. are strong dibasic bases,  but they don’t dissolve well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sed as antacids because 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can’t build up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ases without OH</a:t>
            </a:r>
            <a:r>
              <a:rPr b="0" lang="en-US" sz="5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5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s are proton accept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the lone pair on nitrogen that accepts the prot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ny weak bases  contain  nitroge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(aq)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 +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[B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B]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1752480" y="57150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eak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s react with water to produce hydroxide 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3" name="Picture 5" descr="16_03-02UN"/>
          <p:cNvPicPr/>
          <p:nvPr/>
        </p:nvPicPr>
        <p:blipFill>
          <a:blip r:embed="rId1"/>
          <a:srcRect l="0" t="0" r="0" b="5024"/>
          <a:stretch/>
        </p:blipFill>
        <p:spPr>
          <a:xfrm>
            <a:off x="1447920" y="2895480"/>
            <a:ext cx="6248160" cy="288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rength of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410080" y="502920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ydroxides are stro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thers are weak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maller th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weaker the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eak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expression for this reaction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3248640" y="3379680"/>
            <a:ext cx="2999880" cy="1068840"/>
            <a:chOff x="3248640" y="3379680"/>
            <a:chExt cx="2999880" cy="1068840"/>
          </a:xfrm>
        </p:grpSpPr>
        <p:sp>
          <p:nvSpPr>
            <p:cNvPr id="240" name="Rectangle 6"/>
            <p:cNvSpPr/>
            <p:nvPr/>
          </p:nvSpPr>
          <p:spPr>
            <a:xfrm>
              <a:off x="4167000" y="3379680"/>
              <a:ext cx="199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HB] [OH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4203720" y="3938760"/>
              <a:ext cx="204480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3248640" y="3622680"/>
              <a:ext cx="933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0"/>
          <p:cNvSpPr/>
          <p:nvPr/>
        </p:nvSpPr>
        <p:spPr>
          <a:xfrm>
            <a:off x="240120" y="4876920"/>
            <a:ext cx="79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s the base-dissociation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eak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n be used to find 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and, subsequently, pH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6" name="Picture 8" descr="16_T04"/>
          <p:cNvPicPr/>
          <p:nvPr/>
        </p:nvPicPr>
        <p:blipFill>
          <a:blip r:embed="rId1"/>
          <a:srcRect l="0" t="5785" r="0" b="5490"/>
          <a:stretch/>
        </p:blipFill>
        <p:spPr>
          <a:xfrm>
            <a:off x="1044720" y="2209680"/>
            <a:ext cx="7053120" cy="383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at is the pH of a 0.1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solution of 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9" name="Group 15"/>
          <p:cNvGrpSpPr/>
          <p:nvPr/>
        </p:nvGrpSpPr>
        <p:grpSpPr>
          <a:xfrm>
            <a:off x="1748520" y="3962520"/>
            <a:ext cx="5689080" cy="1203480"/>
            <a:chOff x="1748520" y="3962520"/>
            <a:chExt cx="5689080" cy="1203480"/>
          </a:xfrm>
        </p:grpSpPr>
        <p:grpSp>
          <p:nvGrpSpPr>
            <p:cNvPr id="250" name="Group 13"/>
            <p:cNvGrpSpPr/>
            <p:nvPr/>
          </p:nvGrpSpPr>
          <p:grpSpPr>
            <a:xfrm>
              <a:off x="1748520" y="3962520"/>
              <a:ext cx="3318120" cy="1203480"/>
              <a:chOff x="1748520" y="3962520"/>
              <a:chExt cx="3318120" cy="1203480"/>
            </a:xfrm>
          </p:grpSpPr>
          <p:sp>
            <p:nvSpPr>
              <p:cNvPr id="251" name="Rectangle 10"/>
              <p:cNvSpPr/>
              <p:nvPr/>
            </p:nvSpPr>
            <p:spPr>
              <a:xfrm>
                <a:off x="2777040" y="3962520"/>
                <a:ext cx="228960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N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 [OH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-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NH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1"/>
              <p:cNvSpPr/>
              <p:nvPr/>
            </p:nvSpPr>
            <p:spPr>
              <a:xfrm>
                <a:off x="2805120" y="4518000"/>
                <a:ext cx="2209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>
                <a:off x="1748520" y="4176720"/>
                <a:ext cx="93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4"/>
            <p:cNvSpPr/>
            <p:nvPr/>
          </p:nvSpPr>
          <p:spPr>
            <a:xfrm>
              <a:off x="5134320" y="4206600"/>
              <a:ext cx="23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1.8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8"/>
          <p:cNvGrpSpPr/>
          <p:nvPr/>
        </p:nvGrpSpPr>
        <p:grpSpPr>
          <a:xfrm>
            <a:off x="414720" y="2908440"/>
            <a:ext cx="8269200" cy="581040"/>
            <a:chOff x="414720" y="2908440"/>
            <a:chExt cx="8269200" cy="581040"/>
          </a:xfrm>
        </p:grpSpPr>
        <p:sp>
          <p:nvSpPr>
            <p:cNvPr id="256" name="Rectangle 4"/>
            <p:cNvSpPr/>
            <p:nvPr/>
          </p:nvSpPr>
          <p:spPr>
            <a:xfrm>
              <a:off x="414720" y="2908440"/>
              <a:ext cx="273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5685480" y="2909880"/>
              <a:ext cx="299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16" descr="equilibrium"/>
            <p:cNvPicPr/>
            <p:nvPr/>
          </p:nvPicPr>
          <p:blipFill>
            <a:blip r:embed="rId1"/>
            <a:stretch/>
          </p:blipFill>
          <p:spPr>
            <a:xfrm>
              <a:off x="3699000" y="3048120"/>
              <a:ext cx="161208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90480" y="1752480"/>
            <a:ext cx="34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abulate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04920" y="2666880"/>
          <a:ext cx="8534160" cy="1524240"/>
        </p:xfrm>
        <a:graphic>
          <a:graphicData uri="http://schemas.openxmlformats.org/drawingml/2006/table">
            <a:tbl>
              <a:tblPr/>
              <a:tblGrid>
                <a:gridCol w="2666880"/>
                <a:gridCol w="2514600"/>
                <a:gridCol w="1752480"/>
                <a:gridCol w="16002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N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O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5 - x 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Rectangle 118"/>
          <p:cNvSpPr/>
          <p:nvPr/>
        </p:nvSpPr>
        <p:spPr>
          <a:xfrm>
            <a:off x="6172200" y="3733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9"/>
          <p:cNvSpPr/>
          <p:nvPr/>
        </p:nvSpPr>
        <p:spPr>
          <a:xfrm>
            <a:off x="7848720" y="3733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0"/>
          <p:cNvSpPr/>
          <p:nvPr/>
        </p:nvSpPr>
        <p:spPr>
          <a:xfrm>
            <a:off x="3200400" y="3733920"/>
            <a:ext cx="2057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4419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.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(0.15)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2.7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6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2735280" y="1905120"/>
            <a:ext cx="3614760" cy="1068840"/>
            <a:chOff x="2735280" y="1905120"/>
            <a:chExt cx="3614760" cy="1068840"/>
          </a:xfrm>
        </p:grpSpPr>
        <p:grpSp>
          <p:nvGrpSpPr>
            <p:cNvPr id="268" name="Group 5"/>
            <p:cNvGrpSpPr/>
            <p:nvPr/>
          </p:nvGrpSpPr>
          <p:grpSpPr>
            <a:xfrm>
              <a:off x="5054760" y="1905120"/>
              <a:ext cx="1295280" cy="1068840"/>
              <a:chOff x="5054760" y="1905120"/>
              <a:chExt cx="1295280" cy="1068840"/>
            </a:xfrm>
          </p:grpSpPr>
          <p:sp>
            <p:nvSpPr>
              <p:cNvPr id="269" name="Rectangle 6"/>
              <p:cNvSpPr/>
              <p:nvPr/>
            </p:nvSpPr>
            <p:spPr>
              <a:xfrm>
                <a:off x="5085720" y="1905120"/>
                <a:ext cx="1241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x)</a:t>
                </a:r>
                <a:r>
                  <a:rPr b="0" lang="en-US" sz="32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15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5054760" y="2484360"/>
                <a:ext cx="12952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8"/>
            <p:cNvSpPr/>
            <p:nvPr/>
          </p:nvSpPr>
          <p:spPr>
            <a:xfrm>
              <a:off x="2735280" y="214956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.8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-5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acid base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trong acid – weak bas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1) B +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(weak base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   B + 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mmon weak bases: ammonia (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, methylamine (C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H of Basic Solu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6324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[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1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OH = -log (1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2.8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 = 14.00 - 2.8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13651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11.20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20 M pyridine (Kb = 1.7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 K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 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related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you know one of them, you can calculate the oth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8" name="Picture 8" descr="16_T05"/>
          <p:cNvPicPr/>
          <p:nvPr/>
        </p:nvPicPr>
        <p:blipFill>
          <a:blip r:embed="rId1"/>
          <a:srcRect l="0" t="11893" r="0" b="7806"/>
          <a:stretch/>
        </p:blipFill>
        <p:spPr>
          <a:xfrm>
            <a:off x="1106640" y="1447920"/>
            <a:ext cx="6929280" cy="23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tells us 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nion of a weak acid is a semi-strong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050M NaCN. Ka of HCN is 6.2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N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on competes with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the 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yprotic Acids…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99920" y="144756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ve more than one acidic prot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 difference between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the first dissociation and subsequen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values is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more, the pH generally depend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n the first dissoc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3" name="Picture 8" descr="16_T03"/>
          <p:cNvPicPr/>
          <p:nvPr/>
        </p:nvPicPr>
        <p:blipFill>
          <a:blip r:embed="rId1"/>
          <a:srcRect l="0" t="11102" r="0" b="8386"/>
          <a:stretch/>
        </p:blipFill>
        <p:spPr>
          <a:xfrm>
            <a:off x="1181160" y="419112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yprotic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ways dissociate stepwi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first 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mes of much easier than the sec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 for the first step is much bigger than Ka for the sec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noted 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yprotic acid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4.3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4.3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ase in first step is acid in sec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calculations we can normally ignore the second dissociation because it’s so smal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f all the ions in a solution of 0.20 M Arsenic acid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s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5.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8.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6.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lfuric acid is special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first step it is a strong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a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1.2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concentrations in a 1.0 M solution o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alts as acids an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alts are ionic compou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alts of the cation of strong bases and the anion of strong acids are neutr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example NaCl, K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is no equilibrium for strong acids and b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ignore the reverse reac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 Base Pai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General equation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A(aq) +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32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 + 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cid + Base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onjugate acid +Conjugate base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an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82e32"/>
                </a:solidFill>
                <a:latin typeface="Arial"/>
              </a:rPr>
              <a:t>Competi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c82e32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c82e32"/>
                </a:solidFill>
                <a:latin typeface="Arial"/>
              </a:rPr>
              <a:t>betwee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and A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 is a stronger base it will take the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quilibrium moves to righ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s of Anions with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ions are bas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s such, they can react with water in a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hydrolysis reac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form OH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the conjugate acid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96" name="Group 10"/>
          <p:cNvGrpSpPr/>
          <p:nvPr/>
        </p:nvGrpSpPr>
        <p:grpSpPr>
          <a:xfrm>
            <a:off x="741960" y="4495680"/>
            <a:ext cx="7531560" cy="579600"/>
            <a:chOff x="741960" y="4495680"/>
            <a:chExt cx="7531560" cy="579600"/>
          </a:xfrm>
        </p:grpSpPr>
        <p:sp>
          <p:nvSpPr>
            <p:cNvPr id="297" name="Rectangle 4"/>
            <p:cNvSpPr/>
            <p:nvPr/>
          </p:nvSpPr>
          <p:spPr>
            <a:xfrm>
              <a:off x="741960" y="4495680"/>
              <a:ext cx="241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>
              <a:off x="5488200" y="4495680"/>
              <a:ext cx="27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X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3605760" y="4635360"/>
              <a:ext cx="16020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asic Sal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 anion of a salt is the conjugate base of a weak acid, it will create a basic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an aqueous solution of NaF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jor species are Na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c82e32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F + 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[HF][O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[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Ka =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[F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  [HF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1828800" y="4419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590920" y="54100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s of Cations with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9000" y="2362320"/>
            <a:ext cx="5029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ions with acidic protons (lik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will lower the pH of a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ost metal cations that are hydrated in solution also lower the pH of the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6" name="Picture 5" descr="16_15"/>
          <p:cNvPicPr/>
          <p:nvPr/>
        </p:nvPicPr>
        <p:blipFill>
          <a:blip r:embed="rId1"/>
          <a:srcRect l="0" t="0" r="0" b="3717"/>
          <a:stretch/>
        </p:blipFill>
        <p:spPr>
          <a:xfrm>
            <a:off x="380880" y="1447920"/>
            <a:ext cx="23767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actions of Cations with Wa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124080" y="1905120"/>
            <a:ext cx="5639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traction between nonbonding electrons on oxygen and the metal causes a shift of the electron density in wa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makes the O-H bond more polar and the water more acid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Greater charge and smaller size make a cation more acid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9" name="Picture 4" descr="16_15"/>
          <p:cNvPicPr/>
          <p:nvPr/>
        </p:nvPicPr>
        <p:blipFill>
          <a:blip r:embed="rId1"/>
          <a:srcRect l="0" t="0" r="0" b="3717"/>
          <a:stretch/>
        </p:blipFill>
        <p:spPr>
          <a:xfrm>
            <a:off x="380880" y="1447920"/>
            <a:ext cx="23767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ic sal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salt with the cation of a weak base and the anion of a strong acid will be bas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x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40 M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(th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.8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pH of a solution of 0.10 M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(th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.8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ion of weak acid, cation of weak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&gt; 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cidic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&lt; 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K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Cations and An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 anion that is the conjugate base of a strong acid will not affect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 anion that is the conjugate base of a weak acid will increase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cation that is the conjugate acid of a weak base will decrease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8" name="Picture 8" descr="16_11"/>
          <p:cNvPicPr/>
          <p:nvPr/>
        </p:nvPicPr>
        <p:blipFill>
          <a:blip r:embed="rId1"/>
          <a:srcRect l="0" t="0" r="0" b="11485"/>
          <a:stretch/>
        </p:blipFill>
        <p:spPr>
          <a:xfrm>
            <a:off x="609480" y="1981080"/>
            <a:ext cx="3711600" cy="1828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16_16"/>
          <p:cNvPicPr/>
          <p:nvPr/>
        </p:nvPicPr>
        <p:blipFill>
          <a:blip r:embed="rId2"/>
          <a:srcRect l="0" t="0" r="0" b="3905"/>
          <a:stretch/>
        </p:blipFill>
        <p:spPr>
          <a:xfrm>
            <a:off x="228600" y="4114800"/>
            <a:ext cx="411480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Cations and An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ations of the strong Arrhenius bases will not affect the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ther metal ions will cause a decrease in p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When a solution contains both the conjugate base of a weak acid and the conjugate acid of a weak base, the affect on pH depends on th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c82e32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value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22" name="Picture 4" descr="16_11"/>
          <p:cNvPicPr/>
          <p:nvPr/>
        </p:nvPicPr>
        <p:blipFill>
          <a:blip r:embed="rId1"/>
          <a:srcRect l="0" t="0" r="0" b="11490"/>
          <a:stretch/>
        </p:blipFill>
        <p:spPr>
          <a:xfrm>
            <a:off x="464832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16_16"/>
          <p:cNvPicPr/>
          <p:nvPr/>
        </p:nvPicPr>
        <p:blipFill>
          <a:blip r:embed="rId2"/>
          <a:srcRect l="0" t="0" r="0" b="3911"/>
          <a:stretch/>
        </p:blipFill>
        <p:spPr>
          <a:xfrm>
            <a:off x="4648320" y="411480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re polar the H-X bond and/or the weaker the H-X bond, the more acidic the compou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 acidity increases from left to right across a row and from top to bottom down a group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26" name="Picture 5" descr="16_12"/>
          <p:cNvPicPr/>
          <p:nvPr/>
        </p:nvPicPr>
        <p:blipFill>
          <a:blip r:embed="rId1"/>
          <a:srcRect l="0" t="0" r="0" b="7164"/>
          <a:stretch/>
        </p:blipFill>
        <p:spPr>
          <a:xfrm>
            <a:off x="2268360" y="1676520"/>
            <a:ext cx="46072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it can either add or lose a proton it is </a:t>
            </a:r>
            <a:r>
              <a:rPr b="0" lang="en-US" sz="3600" spc="-1" strike="noStrike">
                <a:solidFill>
                  <a:srgbClr val="00006c"/>
                </a:solidFill>
                <a:latin typeface="Arial"/>
              </a:rPr>
              <a:t>amphiprotic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.  Such as…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C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SO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54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xyacids, in which an -OH is bonded to another atom, Y, the more electronegative Y is, the more acidic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29" name="Picture 6" descr="16_13"/>
          <p:cNvPicPr/>
          <p:nvPr/>
        </p:nvPicPr>
        <p:blipFill>
          <a:blip r:embed="rId1"/>
          <a:srcRect l="0" t="0" r="0" b="5575"/>
          <a:stretch/>
        </p:blipFill>
        <p:spPr>
          <a:xfrm>
            <a:off x="4572000" y="1752480"/>
            <a:ext cx="3986280" cy="1981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16_T06"/>
          <p:cNvPicPr/>
          <p:nvPr/>
        </p:nvPicPr>
        <p:blipFill>
          <a:blip r:embed="rId2"/>
          <a:srcRect l="0" t="0" r="0" b="4571"/>
          <a:stretch/>
        </p:blipFill>
        <p:spPr>
          <a:xfrm>
            <a:off x="4514760" y="3962520"/>
            <a:ext cx="36385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series of oxyacids, acidity increases with the number of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3" name="Picture 5" descr="16_13-01UN"/>
          <p:cNvPicPr/>
          <p:nvPr/>
        </p:nvPicPr>
        <p:blipFill>
          <a:blip r:embed="rId1"/>
          <a:srcRect l="0" t="0" r="0" b="7613"/>
          <a:stretch/>
        </p:blipFill>
        <p:spPr>
          <a:xfrm>
            <a:off x="1298520" y="1752480"/>
            <a:ext cx="65451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Aci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sonance in the conjugate bases of carboxylic acids stabilizes the base and makes the conjugate acid more acidic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6" name="Picture 5" descr="16_13-04UN"/>
          <p:cNvPicPr/>
          <p:nvPr/>
        </p:nvPicPr>
        <p:blipFill>
          <a:blip r:embed="rId1"/>
          <a:srcRect l="0" t="0" r="0" b="7699"/>
          <a:stretch/>
        </p:blipFill>
        <p:spPr>
          <a:xfrm>
            <a:off x="1254240" y="4114800"/>
            <a:ext cx="66340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ydrated me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ighly charged metal ions pull the electrons of surrounding water molecules toward the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Make it easier for H</a:t>
            </a:r>
            <a:r>
              <a:rPr b="0" lang="en-US" sz="40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come off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372280" y="3243240"/>
            <a:ext cx="124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6524640" y="323856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7188120" y="267660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188120" y="3772080"/>
            <a:ext cx="657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5986440" y="3543480"/>
            <a:ext cx="48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6858000" y="3686040"/>
            <a:ext cx="3430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6858000" y="3022560"/>
            <a:ext cx="343080" cy="30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1"/>
          <p:cNvSpPr/>
          <p:nvPr/>
        </p:nvSpPr>
        <p:spPr>
          <a:xfrm>
            <a:off x="5738760" y="3759120"/>
            <a:ext cx="1357200" cy="74304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cid-Base Properties of Oxid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n-metal oxides dissolved in water make aci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g)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 oxides dissolved in water produce b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O(s) +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(l)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Freeform 1028"/>
          <p:cNvSpPr/>
          <p:nvPr/>
        </p:nvSpPr>
        <p:spPr>
          <a:xfrm>
            <a:off x="3809880" y="2362320"/>
            <a:ext cx="611280" cy="268200"/>
          </a:xfrm>
          <a:custGeom>
            <a:avLst/>
            <a:gdLst>
              <a:gd name="textAreaLeft" fmla="*/ 0 w 611280"/>
              <a:gd name="textAreaRight" fmla="*/ 611280 w 6112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29"/>
          <p:cNvSpPr/>
          <p:nvPr/>
        </p:nvSpPr>
        <p:spPr>
          <a:xfrm>
            <a:off x="3733920" y="3809880"/>
            <a:ext cx="610920" cy="268560"/>
          </a:xfrm>
          <a:custGeom>
            <a:avLst/>
            <a:gdLst>
              <a:gd name="textAreaLeft" fmla="*/ 0 w 610920"/>
              <a:gd name="textAreaRight" fmla="*/ 611280 w 610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385" h="169">
                <a:moveTo>
                  <a:pt x="0" y="81"/>
                </a:moveTo>
                <a:lnTo>
                  <a:pt x="378" y="81"/>
                </a:lnTo>
                <a:lnTo>
                  <a:pt x="300" y="0"/>
                </a:lnTo>
                <a:lnTo>
                  <a:pt x="384" y="84"/>
                </a:lnTo>
                <a:lnTo>
                  <a:pt x="300" y="16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acids are defined as electron-pair accept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oms with an empty valence orbital can be Lewis aci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3" name="Picture 5" descr="16_13-06UN"/>
          <p:cNvPicPr/>
          <p:nvPr/>
        </p:nvPicPr>
        <p:blipFill>
          <a:blip r:embed="rId1"/>
          <a:srcRect l="0" t="0" r="0" b="5504"/>
          <a:stretch/>
        </p:blipFill>
        <p:spPr>
          <a:xfrm>
            <a:off x="2271600" y="1752480"/>
            <a:ext cx="459756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Bas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bases are defined as electron-pair don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thing that could be a Brønsted-Lowry base is a Lewis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bases can interact with things other than protons, howev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56" name="Picture 4" descr="16_13-06UN"/>
          <p:cNvPicPr/>
          <p:nvPr/>
        </p:nvPicPr>
        <p:blipFill>
          <a:blip r:embed="rId1"/>
          <a:srcRect l="0" t="0" r="0" b="5504"/>
          <a:stretch/>
        </p:blipFill>
        <p:spPr>
          <a:xfrm>
            <a:off x="2271600" y="1752480"/>
            <a:ext cx="459756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Happens When an Acid Dissolves in Water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ater acts as a Brønsted-Lowry base and attracts a proton (H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result, the </a:t>
            </a:r>
            <a:r>
              <a:rPr b="0" lang="en-US" sz="2800" spc="-1" strike="noStrike">
                <a:solidFill>
                  <a:srgbClr val="00006c"/>
                </a:solidFill>
                <a:latin typeface="Arial"/>
              </a:rPr>
              <a:t>conjugate bas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the acid and a </a:t>
            </a:r>
            <a:r>
              <a:rPr b="0" lang="en-US" sz="2800" spc="-1" strike="noStrike">
                <a:solidFill>
                  <a:srgbClr val="00006c"/>
                </a:solidFill>
                <a:latin typeface="Arial"/>
              </a:rPr>
              <a:t>hydronium i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5" descr="16_02"/>
          <p:cNvPicPr/>
          <p:nvPr/>
        </p:nvPicPr>
        <p:blipFill>
          <a:blip r:embed="rId1"/>
          <a:srcRect l="0" t="0" r="0" b="3364"/>
          <a:stretch/>
        </p:blipFill>
        <p:spPr>
          <a:xfrm>
            <a:off x="304920" y="2190600"/>
            <a:ext cx="389412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05:10:16Z</dcterms:created>
  <dc:creator>John Bookstaver</dc:creator>
  <dc:description/>
  <dc:language>en-US</dc:language>
  <cp:lastModifiedBy>Windows User</cp:lastModifiedBy>
  <dcterms:modified xsi:type="dcterms:W3CDTF">2010-12-07T18:02:02Z</dcterms:modified>
  <cp:revision>81</cp:revision>
  <dc:subject/>
  <dc:title>Chapter 15 Acids and Bases</dc:title>
</cp:coreProperties>
</file>